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14.png" ContentType="image/png"/>
  <Override PartName="/ppt/media/image2.png" ContentType="image/png"/>
  <Override PartName="/ppt/media/image69.png" ContentType="image/png"/>
  <Override PartName="/ppt/media/image32.png" ContentType="image/png"/>
  <Override PartName="/ppt/media/image25.png" ContentType="image/png"/>
  <Override PartName="/ppt/media/image62.png" ContentType="image/png"/>
  <Override PartName="/ppt/media/image75.png" ContentType="image/png"/>
  <Override PartName="/ppt/media/image63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681B-986C-4C60-83E0-876E0AD68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3899-2598-4BA0-980A-10669625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C0B2-5FC4-4B15-9259-7180A673D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5A84-20B3-4649-8570-6AFC5D8FC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1713-8769-49D8-AC2B-7750822E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1327-3C41-451A-A617-AA2B58FA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1FAC-6519-4D63-91D2-1B4AED72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2033-5AAB-4A22-9C2A-B6EA8885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6F2F-1495-4B43-A2D5-C070804F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9561-8855-453E-93F3-0494664F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FDED-A652-4829-9D20-2D4D53C8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5446-1EFD-4EFE-8683-7B938DC1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FB6E-95E0-4072-A9CD-EF77B8DAE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CASE-CONTROL STUDIE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1625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0866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7010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086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772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858000" cy="1066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19320" y="2438280"/>
            <a:ext cx="2006640" cy="2210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200400" y="2438280"/>
            <a:ext cx="2743200" cy="2210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943600" y="2514600"/>
            <a:ext cx="2286000" cy="2133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2133720" y="4648320"/>
            <a:ext cx="4647960" cy="1523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3200400" y="1828800"/>
            <a:ext cx="2819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08660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6858000" cy="19047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90720" y="2666880"/>
            <a:ext cx="68580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2392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0102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34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162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106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69339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238880" cy="4724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219320" y="5257800"/>
            <a:ext cx="37335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391160" cy="44956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90720" y="990720"/>
            <a:ext cx="19605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52480" y="4724280"/>
            <a:ext cx="5105520" cy="1155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38080" y="609480"/>
            <a:ext cx="7315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168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86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934320" cy="23367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523880" y="3276720"/>
            <a:ext cx="6400800" cy="914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523880" y="4191120"/>
            <a:ext cx="6400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162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106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934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7086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15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239240" cy="1625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952880" y="2286000"/>
            <a:ext cx="3048120" cy="2133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838080" y="2286000"/>
            <a:ext cx="4114800" cy="2158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843840" y="4419720"/>
            <a:ext cx="442044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CHILD’S MEDICATION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e.g., aspiri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15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315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15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7010280" cy="1828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749680" y="1828800"/>
            <a:ext cx="3833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7010280" cy="3429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276720" y="4114800"/>
            <a:ext cx="28191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911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1629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86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6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162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86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70102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09-30T14:15:56Z</dcterms:modified>
  <cp:revision>107</cp:revision>
  <dc:subject/>
  <dc:title>The Art in the State of the Art</dc:title>
</cp:coreProperties>
</file>